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9AE-536B-4D30-8106-BC528E71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A40-CD75-4A13-8691-1225C9EE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C0C-7CA5-470E-9134-3CB69F58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7B9-2C71-4904-A001-D148936B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4D04-0FBD-46E6-8735-C116607A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C039-47E9-4A05-ADEB-A3797C59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1A15-7B90-4AF8-AC86-3E6995CA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E6E7-4D4D-4BF9-9D2F-602F0F18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5789-1A46-467C-94C6-674C620E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C972-80CE-4B3E-B480-7550523E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1377-BE83-4AC4-8EDC-07D914F6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E11-8390-4ABA-AFB2-9C833FA5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F945-73FB-49A4-B04B-A786AF4F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B903-6CC3-4D13-85F2-5F2E07A5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1825-BE50-43A1-A5EB-293C6A51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73B2-5F9F-4767-97CA-1876BA32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0997-98E8-449E-B521-98D2A25A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B5D-CDEE-423B-9B18-6B1F0F8F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C6F-79C2-418B-8B1A-07F9C826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E5A-F912-4266-917A-4FC37C8A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17B-7C0B-4633-9ACF-68F311B2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988-3091-44F5-9C7D-BB6B1F15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611-6F42-4423-AD70-553B877D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19E-4628-4FA4-9D33-310B1BB3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CCD4-F0A0-4C64-BE1B-6CB8C0EF18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B2A4-6E02-4940-92E3-383AAA86CA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ition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aitlynn Lav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sica Sess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some of the elements in Transition Metal these are the most interesting Scandium (Sc) , Titanium  (Ti) , Vanadium (V), Chromium (cr) , Manganese (Mn) , Iron (Fe) , Cobalt (Co) , Nickel (Ni) , Copper (Cu) , Zinc (Zn) , Yttrium  (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052640"/>
            <a:ext cx="3168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s in the mid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conductors of heat and electri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used for jewel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nsition metals are able to put up to 32 electrons in their second to last sh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ond with many elements in a variety of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lso one liquids in all the transition metals that are li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electronic configurations in the 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Metals are located in the middle of the periodic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elements belonging to I B, II B, III B, IV B, V B, VI B, VII B, VIII B are called transition elements. They resemble each other in several physical and chemical proper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hey are all met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y are called transition elements because they are placed between the most reactive metals on the left and non-metals on the right. Their compounds are col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adium though a transition element, has an electronic configuration that does not agree with the general r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4:31:50Z</dcterms:created>
  <dc:creator>tatumadmin</dc:creator>
  <dc:description/>
  <dc:language>en-US</dc:language>
  <cp:lastModifiedBy>tatumadmin</cp:lastModifiedBy>
  <dcterms:modified xsi:type="dcterms:W3CDTF">2009-12-04T14:50:20Z</dcterms:modified>
  <cp:revision>3</cp:revision>
  <dc:subject/>
  <dc:title>Transition Metals</dc:title>
</cp:coreProperties>
</file>